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518-A595-4FF1-9B5A-20A5CAEB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D53-F4CD-4EF5-AD3F-2F33E229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071-B6C9-4579-8FC1-3CC18CEA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8B1-FF62-447E-A517-00E57F42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DF9-C010-4950-9445-FE71E756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05E-1099-48C6-A2D5-67B22A9F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7C0-CF21-4AE6-A388-7A17EA07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39D-584F-4FA8-A958-0EC01F06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AA4-0572-4AA9-BF14-9287CE5B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469-2DB9-4393-B6DD-9C08C153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12F-E7A6-4C20-9DF7-1A7C976C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A44-F497-4161-9DEA-1C20ACCB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AD99-990B-4352-A0D6-C9B2BBE97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979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77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5639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35592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4031640" y="16635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4031280" y="3247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4031280" y="2455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059280" y="501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2411280" y="328392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599640" y="447192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788000" y="328356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1" idx="0"/>
          </p:cNvCxnSpPr>
          <p:nvPr/>
        </p:nvCxnSpPr>
        <p:spPr>
          <a:xfrm rot="5400000">
            <a:off x="3960000" y="799560"/>
            <a:ext cx="359640" cy="1440"/>
          </a:xfrm>
          <a:prstGeom prst="bentConnector3">
            <a:avLst>
              <a:gd name="adj1" fmla="val 18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059280" y="5877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5" idx="0"/>
          </p:cNvCxnSpPr>
          <p:nvPr/>
        </p:nvCxnSpPr>
        <p:spPr>
          <a:xfrm rot="16200000">
            <a:off x="399492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6" idx="0"/>
          </p:cNvCxnSpPr>
          <p:nvPr/>
        </p:nvCxnSpPr>
        <p:spPr>
          <a:xfrm rot="16200000">
            <a:off x="637164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299280" y="3716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99280" y="2995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5" idx="3"/>
            <a:endCxn id="59" idx="1"/>
          </p:cNvCxnSpPr>
          <p:nvPr/>
        </p:nvCxnSpPr>
        <p:spPr>
          <a:xfrm>
            <a:off x="5219640" y="364392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 flipV="1">
            <a:off x="5219640" y="328356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8256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43" idx="2"/>
            <a:endCxn id="63" idx="0"/>
          </p:cNvCxnSpPr>
          <p:nvPr/>
        </p:nvCxnSpPr>
        <p:spPr>
          <a:xfrm rot="16200000">
            <a:off x="161856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62520" y="429264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537372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0640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334476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7628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7956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2063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165564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4-19T05:39:22Z</dcterms:modified>
  <cp:revision>19</cp:revision>
  <dc:subject/>
  <dc:title>Diapositiva 1</dc:title>
</cp:coreProperties>
</file>